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3.wmf" ContentType="image/x-wmf"/>
  <Override PartName="/ppt/media/image5.png" ContentType="image/png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.png" ContentType="image/png"/>
  <Override PartName="/ppt/media/image11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B3DE-4DA7-4C4A-BC54-D032907B4FF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B60D-8966-4FE0-B069-73FC2F9B68A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7142-FD39-43F0-93CF-1F67E13EE66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7329-BC83-4DD1-9A37-0DBE141B313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B7ED-FB7E-4CD1-97E3-3555DF19923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79CD-FE70-4999-ACFE-022FA8D79AD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4E1C-079B-4968-B450-BCA2C3E8110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052B-E40C-46E1-BCD3-0E908217AFB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7B29-CAF3-43D8-9397-B9AEEF07172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2653-EB71-41B9-9132-4D79D8922A7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FA28-DA7F-4522-8813-6360C258B81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E68D-0AB6-4CA6-AA24-4517E842D08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4BB-4388-4ED6-85C2-2798C8AA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C76-D527-47B3-B6D6-C2811B07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D74-64FB-4DBE-A00D-80486DF5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2AC-C132-4739-BC14-73C253F1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FDF2-6AB6-4D7D-A98D-FE12ECCC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BAC5-E49E-4322-99A9-8BF4F423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DBEA-5E00-49B6-89D4-9F9DC65E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B9FA-70DA-4782-943E-892347DA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3333-3442-409D-AE5D-15E59DE0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92DD-13B3-4596-AD76-C6A27F5C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FE92-27B5-4F5F-A880-7AFDA665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AC4-30F8-419D-8CAB-0D08C627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7499-9AC7-4B31-9426-3EB4A330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D32B-B3B4-4A22-B343-BCE7B2BA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E910-64EE-4037-9E16-D9C217E6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D4A4-2711-47F6-AD8F-21384519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563F-6BF0-4383-8D87-49A26742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C4A8-E612-4885-A430-14D79A4F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0118-5899-49BB-9988-49E6C17A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3739-5AD4-47A8-BC1D-87E1F54C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B131-E4FD-444A-B66B-2BE022FA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6FB4F-F21B-4892-8C68-2E2BC921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E46-484D-441C-B1E3-355CA48B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2802F-7442-426F-AE0C-6400C00D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CF646-0D6C-41AC-BDE8-CDF7AFAC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3F3F-E726-4101-BBA5-4F5EACF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9FE9-15BF-47E1-A47C-FEEA6D8B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BEA18-2BBD-4F69-8877-F1BDF4AA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A561-AB48-4016-A6CC-F97474DC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A0BCB-8B63-4B02-BEEF-B6DA7860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0A98B-B01C-42CF-8F61-8269DC43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1563-9EA8-409C-AA56-1E12022A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9910E-2888-4CF3-97E6-C37DB299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48D-E9BB-4AE6-92B2-5EF38A85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3D4B-8E27-43BA-9139-9E60950F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81CDE-007B-40D1-9F59-8FFAC21C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BC52-3749-4DDD-A280-B75FDEA4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52615-A9A3-4ED6-B15C-FF1742C3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1471E-5C69-4AC2-A24B-55053C22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3A907-75AB-4D3C-ACA7-EB93A939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B1092-A5AE-4EF1-A43A-E5581ADE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0728C-E2C7-4E12-A9A4-B5443891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3219B-B24F-42C5-8DF7-89D47618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3DB-0633-4938-82F9-B1F8DE52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3FA-EF61-4F49-83F5-E9976218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2BB-CE1C-4361-8971-E1186B61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842-3225-42A6-92D3-1779107E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D8F-EC5B-44ED-8437-4E21B900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A79E-7604-4791-8F37-76786FA4DD89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1418-F0BB-4195-B283-5D2D1E346A49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4AD1-A51E-4CC5-94C8-6EFD238A9EDD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B021-A94C-431A-BCBF-79E32FC6D57E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E184-A0DD-4ED1-92F3-1554C23FD869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37A8-A3EF-4B15-BC73-C2BC4C1A11E6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C381-4500-4D85-8E66-F3920CE938E8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818F-0464-4277-B560-4BB4B627D874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0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298440"/>
            <a:ext cx="7351920" cy="1322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ssigned work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pg.377 #5,6ef,7ef,8,9,11,12,15,16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Pg. 385#2,3,6cd,8,9-15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o far we have 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ultiplied vectors by a scalar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dded vector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oday we will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ultiply vectors in a way to produce a scala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his is called a Dot Produc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8028000" y="6237360"/>
            <a:ext cx="89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34100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Ex 4: Find the angle between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1258920" y="2565360"/>
          <a:ext cx="5400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565360"/>
                    <a:ext cx="5400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24000" y="134100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Ex 5: The parallelogram OACB has one vertex,O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t the origin and two non-parallel sid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defined by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e the angle between the diagon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4"/>
          <p:cNvGraphicFramePr/>
          <p:nvPr/>
        </p:nvGraphicFramePr>
        <p:xfrm>
          <a:off x="2771640" y="2708280"/>
          <a:ext cx="364356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2708280"/>
                    <a:ext cx="3643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t Product </a:t>
            </a:r>
            <a:r>
              <a:rPr b="0" lang="en-CA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also called Scalar Product or Inner Produc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re two vectors and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s the angle between them, then the dot product of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Note: The result is a scalar (no directio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2"/>
          <p:cNvGraphicFramePr/>
          <p:nvPr/>
        </p:nvGraphicFramePr>
        <p:xfrm>
          <a:off x="2916360" y="4221000"/>
          <a:ext cx="271116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4221000"/>
                    <a:ext cx="27111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13"/>
          <p:cNvGraphicFramePr/>
          <p:nvPr/>
        </p:nvGraphicFramePr>
        <p:xfrm>
          <a:off x="5435640" y="2997360"/>
          <a:ext cx="5713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2997360"/>
                    <a:ext cx="57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16"/>
          <p:cNvGraphicFramePr/>
          <p:nvPr/>
        </p:nvGraphicFramePr>
        <p:xfrm>
          <a:off x="6516720" y="3357720"/>
          <a:ext cx="1284120" cy="55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3357720"/>
                    <a:ext cx="12841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7"/>
          <p:cNvGraphicFramePr/>
          <p:nvPr/>
        </p:nvGraphicFramePr>
        <p:xfrm>
          <a:off x="900000" y="2828880"/>
          <a:ext cx="1208160" cy="53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0000" y="2828880"/>
                    <a:ext cx="1208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perties of Dot Product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Commutativ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Distributiv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Magnitud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ssociative with a scalar k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7"/>
          <p:cNvGraphicFramePr/>
          <p:nvPr/>
        </p:nvGraphicFramePr>
        <p:xfrm>
          <a:off x="2700360" y="2997360"/>
          <a:ext cx="1541520" cy="50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997360"/>
                    <a:ext cx="15415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8"/>
          <p:cNvGraphicFramePr/>
          <p:nvPr/>
        </p:nvGraphicFramePr>
        <p:xfrm>
          <a:off x="2627280" y="3933720"/>
          <a:ext cx="139716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933720"/>
                    <a:ext cx="13971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9"/>
          <p:cNvGraphicFramePr/>
          <p:nvPr/>
        </p:nvGraphicFramePr>
        <p:xfrm>
          <a:off x="2752560" y="3573360"/>
          <a:ext cx="278460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2560" y="3573360"/>
                    <a:ext cx="27846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0"/>
          <p:cNvGraphicFramePr/>
          <p:nvPr/>
        </p:nvGraphicFramePr>
        <p:xfrm>
          <a:off x="4859280" y="4581360"/>
          <a:ext cx="29196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4581360"/>
                    <a:ext cx="29196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1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Given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and the angle between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determi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"/>
          <p:cNvGraphicFramePr/>
          <p:nvPr/>
        </p:nvGraphicFramePr>
        <p:xfrm>
          <a:off x="1403280" y="2565360"/>
          <a:ext cx="12096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565360"/>
                    <a:ext cx="1209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4"/>
          <p:cNvGraphicFramePr/>
          <p:nvPr/>
        </p:nvGraphicFramePr>
        <p:xfrm>
          <a:off x="2411280" y="1989000"/>
          <a:ext cx="187344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1989000"/>
                    <a:ext cx="18734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9"/>
          <p:cNvGraphicFramePr/>
          <p:nvPr/>
        </p:nvGraphicFramePr>
        <p:xfrm>
          <a:off x="3132000" y="2565360"/>
          <a:ext cx="71928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2565360"/>
                    <a:ext cx="719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0"/>
          <p:cNvGraphicFramePr/>
          <p:nvPr/>
        </p:nvGraphicFramePr>
        <p:xfrm>
          <a:off x="900000" y="3068640"/>
          <a:ext cx="716040" cy="55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0000" y="3068640"/>
                    <a:ext cx="716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1"/>
          <p:cNvGraphicFramePr/>
          <p:nvPr/>
        </p:nvGraphicFramePr>
        <p:xfrm>
          <a:off x="5435640" y="3068640"/>
          <a:ext cx="733320" cy="56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3068640"/>
                    <a:ext cx="733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8"/>
          <p:cNvGraphicFramePr/>
          <p:nvPr/>
        </p:nvGraphicFramePr>
        <p:xfrm>
          <a:off x="2050920" y="2565360"/>
          <a:ext cx="86544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565360"/>
                    <a:ext cx="8654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9"/>
          <p:cNvGraphicFramePr/>
          <p:nvPr/>
        </p:nvGraphicFramePr>
        <p:xfrm>
          <a:off x="900000" y="3068640"/>
          <a:ext cx="18590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068640"/>
                    <a:ext cx="1859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0"/>
          <p:cNvGraphicFramePr/>
          <p:nvPr/>
        </p:nvGraphicFramePr>
        <p:xfrm>
          <a:off x="3564000" y="2997360"/>
          <a:ext cx="12589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2997360"/>
                    <a:ext cx="1258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11"/>
          <p:cNvGraphicFramePr/>
          <p:nvPr/>
        </p:nvGraphicFramePr>
        <p:xfrm>
          <a:off x="5724360" y="3068640"/>
          <a:ext cx="220536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3068640"/>
                    <a:ext cx="2205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54" name="Straight Arrow Connector 20"/>
          <p:cNvCxnSpPr/>
          <p:nvPr/>
        </p:nvCxnSpPr>
        <p:spPr>
          <a:xfrm>
            <a:off x="1186920" y="4653000"/>
            <a:ext cx="1081800" cy="289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5" name="Straight Arrow Connector 22"/>
          <p:cNvCxnSpPr/>
          <p:nvPr/>
        </p:nvCxnSpPr>
        <p:spPr>
          <a:xfrm flipV="1">
            <a:off x="1186920" y="4075920"/>
            <a:ext cx="1008720" cy="57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6" name="Straight Arrow Connector 24"/>
          <p:cNvCxnSpPr/>
          <p:nvPr/>
        </p:nvCxnSpPr>
        <p:spPr>
          <a:xfrm>
            <a:off x="4067280" y="4797000"/>
            <a:ext cx="101016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7" name="Straight Arrow Connector 26"/>
          <p:cNvCxnSpPr/>
          <p:nvPr/>
        </p:nvCxnSpPr>
        <p:spPr>
          <a:xfrm flipV="1">
            <a:off x="4067280" y="3789000"/>
            <a:ext cx="2160" cy="1008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8" name="Straight Arrow Connector 28"/>
          <p:cNvCxnSpPr/>
          <p:nvPr/>
        </p:nvCxnSpPr>
        <p:spPr>
          <a:xfrm>
            <a:off x="6732720" y="4869000"/>
            <a:ext cx="10800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9" name="Straight Arrow Connector 30"/>
          <p:cNvCxnSpPr/>
          <p:nvPr/>
        </p:nvCxnSpPr>
        <p:spPr>
          <a:xfrm flipH="1" flipV="1">
            <a:off x="5939640" y="4149360"/>
            <a:ext cx="793080" cy="720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aphicFrame>
        <p:nvGraphicFramePr>
          <p:cNvPr id="260" name="Object 12"/>
          <p:cNvGraphicFramePr/>
          <p:nvPr/>
        </p:nvGraphicFramePr>
        <p:xfrm>
          <a:off x="1246320" y="5445000"/>
          <a:ext cx="125388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46320" y="5445000"/>
                    <a:ext cx="12538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3"/>
          <p:cNvGraphicFramePr/>
          <p:nvPr/>
        </p:nvGraphicFramePr>
        <p:xfrm>
          <a:off x="3851280" y="5373720"/>
          <a:ext cx="135576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3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51280" y="5373720"/>
                    <a:ext cx="13557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14"/>
          <p:cNvGraphicFramePr/>
          <p:nvPr/>
        </p:nvGraphicFramePr>
        <p:xfrm>
          <a:off x="6443640" y="5300640"/>
          <a:ext cx="148752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5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43640" y="5300640"/>
                    <a:ext cx="14875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8"/>
          <p:cNvGraphicFramePr/>
          <p:nvPr/>
        </p:nvGraphicFramePr>
        <p:xfrm>
          <a:off x="3635280" y="4076640"/>
          <a:ext cx="3603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7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5280" y="4076640"/>
                    <a:ext cx="360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19"/>
          <p:cNvGraphicFramePr/>
          <p:nvPr/>
        </p:nvGraphicFramePr>
        <p:xfrm>
          <a:off x="6516720" y="4005360"/>
          <a:ext cx="358920" cy="431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9" name="Object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6720" y="4005360"/>
                    <a:ext cx="3589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20"/>
          <p:cNvGraphicFramePr/>
          <p:nvPr/>
        </p:nvGraphicFramePr>
        <p:xfrm>
          <a:off x="1258920" y="3860640"/>
          <a:ext cx="360360" cy="43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1" name="Object 2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58920" y="3860640"/>
                    <a:ext cx="360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21"/>
          <p:cNvGraphicFramePr/>
          <p:nvPr/>
        </p:nvGraphicFramePr>
        <p:xfrm>
          <a:off x="4427640" y="4869000"/>
          <a:ext cx="43164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3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27640" y="486900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22"/>
          <p:cNvGraphicFramePr/>
          <p:nvPr/>
        </p:nvGraphicFramePr>
        <p:xfrm>
          <a:off x="1258920" y="4869000"/>
          <a:ext cx="43164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5" name="Object 2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258920" y="486900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23"/>
          <p:cNvGraphicFramePr/>
          <p:nvPr/>
        </p:nvGraphicFramePr>
        <p:xfrm>
          <a:off x="7236000" y="4869000"/>
          <a:ext cx="43164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7" name="Object 2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236000" y="486900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Box 25"/>
          <p:cNvSpPr/>
          <p:nvPr/>
        </p:nvSpPr>
        <p:spPr>
          <a:xfrm>
            <a:off x="468360" y="213372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sign of the dot product depends o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g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 common use of dot product is to test if two vectors are perpendicular………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wo vectors are perpendicular IFF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0"/>
          <p:cNvGraphicFramePr/>
          <p:nvPr/>
        </p:nvGraphicFramePr>
        <p:xfrm>
          <a:off x="2843280" y="4221000"/>
          <a:ext cx="2020680" cy="8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4221000"/>
                    <a:ext cx="2020680" cy="8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4000" y="148428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Dot Product in Component (Algebraic) Form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n R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: If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n R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: If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Read section 7.4 to see proof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"/>
          <p:cNvGraphicFramePr/>
          <p:nvPr/>
        </p:nvGraphicFramePr>
        <p:xfrm>
          <a:off x="1835280" y="2492280"/>
          <a:ext cx="517500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492280"/>
                    <a:ext cx="51750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5"/>
          <p:cNvGraphicFramePr/>
          <p:nvPr/>
        </p:nvGraphicFramePr>
        <p:xfrm>
          <a:off x="1403280" y="3068640"/>
          <a:ext cx="26640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068640"/>
                    <a:ext cx="26640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6"/>
          <p:cNvGraphicFramePr/>
          <p:nvPr/>
        </p:nvGraphicFramePr>
        <p:xfrm>
          <a:off x="1763640" y="4076640"/>
          <a:ext cx="547236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4076640"/>
                    <a:ext cx="5472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7"/>
          <p:cNvGraphicFramePr/>
          <p:nvPr/>
        </p:nvGraphicFramePr>
        <p:xfrm>
          <a:off x="1403280" y="4581360"/>
          <a:ext cx="3313080" cy="60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03280" y="4581360"/>
                    <a:ext cx="331308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Ex 2: If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Calculate: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4"/>
          <p:cNvGraphicFramePr/>
          <p:nvPr/>
        </p:nvGraphicFramePr>
        <p:xfrm>
          <a:off x="1692360" y="1989000"/>
          <a:ext cx="436572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1989000"/>
                    <a:ext cx="43657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5"/>
          <p:cNvGraphicFramePr/>
          <p:nvPr/>
        </p:nvGraphicFramePr>
        <p:xfrm>
          <a:off x="2195640" y="3068640"/>
          <a:ext cx="733320" cy="5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3068640"/>
                    <a:ext cx="733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3/7.4 Dot Product of Two Vector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Ex 3: For what value of k are the vecto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perpendicular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1740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Footer Placeholder 7"/>
          <p:cNvSpPr/>
          <p:nvPr/>
        </p:nvSpPr>
        <p:spPr>
          <a:xfrm>
            <a:off x="8244000" y="630864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5"/>
          <p:cNvGraphicFramePr/>
          <p:nvPr/>
        </p:nvGraphicFramePr>
        <p:xfrm>
          <a:off x="1403280" y="2565360"/>
          <a:ext cx="46386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565360"/>
                    <a:ext cx="4638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0-12-03T18:12:54Z</dcterms:modified>
  <cp:revision>207</cp:revision>
  <dc:subject/>
  <dc:title>2.2 Derivatives of Polynomial Functions</dc:title>
</cp:coreProperties>
</file>